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787-1C35-49F6-8490-8D505EC6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412-1407-43C6-A089-D7691A4A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F3D-8ADC-4F8F-9A0B-392B0C56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BA5-F807-477D-9A62-90AD0EEA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E02-9413-4191-A880-1B5D7A15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ABC-7CC7-4B93-BB24-0546581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C8B-DC34-45B3-B7B0-216E7BD3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89E-D4CF-4CD5-BDA0-49B6C28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87F-F1A8-4F8C-AA70-FF878AFA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0C3-848B-4367-A3C0-E6D89D9E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6FD-BCF9-4757-9354-E2152244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99F-1415-4961-9D94-86BA2B5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68D5-8C3A-49F9-9731-F371ECAA0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 fahren in die Schwe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Ke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Gele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Germany_flag"/>
          <p:cNvPicPr/>
          <p:nvPr/>
        </p:nvPicPr>
        <p:blipFill>
          <a:blip r:embed="rId1"/>
          <a:stretch/>
        </p:blipFill>
        <p:spPr>
          <a:xfrm>
            <a:off x="2895480" y="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Reise Kost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941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$3169.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Family\AppData\Local\Microsoft\Windows\Temporary Internet Files\Content.IE5\O52249A1\MC900432566[1].png"/>
          <p:cNvPicPr/>
          <p:nvPr/>
        </p:nvPicPr>
        <p:blipFill>
          <a:blip r:embed="rId1"/>
          <a:stretch/>
        </p:blipFill>
        <p:spPr>
          <a:xfrm>
            <a:off x="708660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Program Files (x86)\Microsoft Office\MEDIA\CAGCAT10\j0222015.wmf"/>
          <p:cNvPicPr/>
          <p:nvPr/>
        </p:nvPicPr>
        <p:blipFill>
          <a:blip r:embed="rId2"/>
          <a:stretch/>
        </p:blipFill>
        <p:spPr>
          <a:xfrm>
            <a:off x="304920" y="4460760"/>
            <a:ext cx="1779480" cy="178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Family\AppData\Local\Microsoft\Windows\Temporary Internet Files\Content.IE5\9LLWIZN1\MC900389882[1].wmf"/>
          <p:cNvPicPr/>
          <p:nvPr/>
        </p:nvPicPr>
        <p:blipFill>
          <a:blip r:embed="rId3"/>
          <a:stretch/>
        </p:blipFill>
        <p:spPr>
          <a:xfrm>
            <a:off x="533520" y="1828800"/>
            <a:ext cx="1809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ch gehe in die Schweiz mit dem Flugze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rcRect l="0" t="16837" r="41670" b="73067"/>
          <a:stretch/>
        </p:blipFill>
        <p:spPr>
          <a:xfrm>
            <a:off x="2514600" y="1600200"/>
            <a:ext cx="480060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rcRect l="11874" t="36365" r="40002" b="33335"/>
          <a:stretch/>
        </p:blipFill>
        <p:spPr>
          <a:xfrm>
            <a:off x="2438280" y="2819520"/>
            <a:ext cx="502920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Family\AppData\Local\Microsoft\Windows\Temporary Internet Files\Content.IE5\9LLWIZN1\MC900389882[1].wmf"/>
          <p:cNvPicPr/>
          <p:nvPr/>
        </p:nvPicPr>
        <p:blipFill>
          <a:blip r:embed="rId3"/>
          <a:stretch/>
        </p:blipFill>
        <p:spPr>
          <a:xfrm>
            <a:off x="457200" y="5214960"/>
            <a:ext cx="180972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Program Files (x86)\Microsoft Office\MEDIA\CAGCAT10\j0293234.wmf"/>
          <p:cNvPicPr/>
          <p:nvPr/>
        </p:nvPicPr>
        <p:blipFill>
          <a:blip r:embed="rId4"/>
          <a:stretch/>
        </p:blipFill>
        <p:spPr>
          <a:xfrm>
            <a:off x="7467480" y="14479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ch fahre nach Bern mit der Bahn von Zür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33674" r="0" b="44442"/>
          <a:stretch/>
        </p:blipFill>
        <p:spPr>
          <a:xfrm>
            <a:off x="457200" y="2514600"/>
            <a:ext cx="822960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Family\AppData\Local\Microsoft\Windows\Temporary Internet Files\Content.IE5\B9T8ELG8\MC900237763[1].wmf"/>
          <p:cNvPicPr/>
          <p:nvPr/>
        </p:nvPicPr>
        <p:blipFill>
          <a:blip r:embed="rId2"/>
          <a:stretch/>
        </p:blipFill>
        <p:spPr>
          <a:xfrm>
            <a:off x="2438280" y="5038560"/>
            <a:ext cx="3908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se K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29536" t="21644" r="0" b="6212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Ben_Brown_Bern_200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52280" y="1371600"/>
            <a:ext cx="883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rn wir skilau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in die Paul Klee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durch die Rosen Gar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laufe neben die A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in das Hotel in Be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65491" t="38479" r="4975" b="13428"/>
          <a:stretch/>
        </p:blipFill>
        <p:spPr>
          <a:xfrm>
            <a:off x="3902040" y="2332080"/>
            <a:ext cx="5267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457200" y="16765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er Whirl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as restaur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ein Fitnessra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www.destination360.com/europe/switzerland/berne/hotel-allegro-bern.jpg"/>
          <p:cNvPicPr/>
          <p:nvPr/>
        </p:nvPicPr>
        <p:blipFill>
          <a:blip r:embed="rId2"/>
          <a:stretch/>
        </p:blipFill>
        <p:spPr>
          <a:xfrm>
            <a:off x="-25560" y="4229280"/>
            <a:ext cx="39531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fahre nach Zurich von Bern mit der Ba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26937" r="30557" b="64646"/>
          <a:stretch/>
        </p:blipFill>
        <p:spPr>
          <a:xfrm>
            <a:off x="1676520" y="266688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Family\AppData\Local\Microsoft\Windows\Temporary Internet Files\Content.IE5\B9T8ELG8\MC900237763[1].wmf"/>
          <p:cNvPicPr/>
          <p:nvPr/>
        </p:nvPicPr>
        <p:blipFill>
          <a:blip r:embed="rId2"/>
          <a:stretch/>
        </p:blipFill>
        <p:spPr>
          <a:xfrm>
            <a:off x="2514600" y="4522680"/>
            <a:ext cx="3908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Zurich Marriott Hotel Exterior"/>
          <p:cNvPicPr/>
          <p:nvPr/>
        </p:nvPicPr>
        <p:blipFill>
          <a:blip r:embed="rId1"/>
          <a:stretch/>
        </p:blipFill>
        <p:spPr>
          <a:xfrm>
            <a:off x="0" y="3103560"/>
            <a:ext cx="3276720" cy="3746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rich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hat ein Parkpla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hat ein Fitnessra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eine S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rcRect l="35321" t="20437" r="25943" b="44840"/>
          <a:stretch/>
        </p:blipFill>
        <p:spPr>
          <a:xfrm>
            <a:off x="3276720" y="3276720"/>
            <a:ext cx="6373800" cy="3213000"/>
          </a:xfrm>
          <a:prstGeom prst="rect">
            <a:avLst/>
          </a:prstGeom>
          <a:ln w="0">
            <a:noFill/>
          </a:ln>
        </p:spPr>
      </p:pic>
      <p:sp>
        <p:nvSpPr>
          <p:cNvPr id="68" name="Oval 1"/>
          <p:cNvSpPr/>
          <p:nvPr/>
        </p:nvSpPr>
        <p:spPr>
          <a:xfrm>
            <a:off x="3048120" y="3530520"/>
            <a:ext cx="236196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orangesmile.com/common/img_final_large/zurich_sightseeing.jpg"/>
          <p:cNvPicPr/>
          <p:nvPr/>
        </p:nvPicPr>
        <p:blipFill>
          <a:blip r:embed="rId1"/>
          <a:stretch/>
        </p:blipFill>
        <p:spPr>
          <a:xfrm>
            <a:off x="4651200" y="3505320"/>
            <a:ext cx="4572000" cy="343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ahre durch d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sta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 in die Grossmu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 den Limmat ent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kaufe fur die Klam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29:12Z</dcterms:created>
  <dc:creator>CUSD220</dc:creator>
  <dc:description/>
  <dc:language>en-US</dc:language>
  <cp:lastModifiedBy>CUSD220</cp:lastModifiedBy>
  <dcterms:modified xsi:type="dcterms:W3CDTF">2012-01-09T13:12:53Z</dcterms:modified>
  <cp:revision>20</cp:revision>
  <dc:subject/>
  <dc:title>Trip to Germany</dc:title>
</cp:coreProperties>
</file>